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C9E-4C99-4630-8252-5FBBFA79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3B2-9694-416E-9CD2-482CBA5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ADF-571A-45C9-950D-B409F1BC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181-F249-44ED-8C90-E68A5F52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55F-5963-4598-B1E5-26877F5D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D79-EEA4-4FD4-BC24-D838F0E2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ED52-0C67-49A6-8B79-5B84003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DFB-5B61-445D-92D9-D5E1F71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368E-F548-46C0-8C1A-842D806F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7E7-4F94-412E-94AC-A507732B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1DB-1A55-4F6D-B6C6-9830219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8D1-0302-4238-B062-995E19C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EA4-181A-4CD6-A669-373F286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B28E-3D8C-43BC-86A9-F43261F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426F-7B99-40D5-8685-6A98B15A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907-DE43-48AE-BB28-39E8022E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82D-6125-4FF2-B763-90F819C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947-B93A-4CC0-B6DF-EE6913E6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3C8-6A33-45CC-BA3C-41D525D1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6FC-1714-4199-8562-358772CD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78B-CC6A-43F5-802D-93DDA41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A2C-89A1-44C9-AFD4-84848BD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197-9745-41E5-BCAC-4F01350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F09-CD89-45D4-8E52-D3731B9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5143-AE70-4F86-BE4F-82C091862E4D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DC56-9ED7-436E-8EFA-7F2E293FFE17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 – ABRIL - 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esquisa com professores regentes sobre os cursos que poderão ser ofertados pelos professores da STE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</a:t>
            </a:r>
            <a:r>
              <a:rPr b="1" lang="pt-PT" sz="2800" spc="-1" strike="noStrike">
                <a:solidFill>
                  <a:srgbClr val="2f1311"/>
                </a:solidFill>
                <a:latin typeface="Arial"/>
              </a:rPr>
              <a:t>EJA &amp; Inclusão digital </a:t>
            </a: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curso de informática básica)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20/03 a 10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em andament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Jogos pedagógico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aluno Monitor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Oferecer segundo a prioridade curso de informática básica nos três períodos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em andament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1/05 a 15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JUNHO – AGOSTO - SETEMBR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PowerPoint e authorStream nos três período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MovieMaker, YouTube e Wikispaces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Ferrramentas da internet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5/06 a 19/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7/08 a 21/0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6/09 a 18/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ETEMBR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download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— </a:t>
            </a: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baixar arquivos, filmes, músicas da internet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23/09 a 25/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urso informática básica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iniciado sem concluir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sem registr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?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rofessores regentes;</a:t>
            </a: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Preenchimento do relatório do</a:t>
            </a:r>
            <a:r>
              <a:rPr b="1" lang="pt-PT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PNUD Brasil Ponto a Ponto pelos aluno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Elaboração e apresentação do Plano de Ação 2009</a:t>
            </a: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3/03 a 10/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20/03 a 15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Irman Ribeiro</cp:lastModifiedBy>
  <dcterms:modified xsi:type="dcterms:W3CDTF">2009-06-30T19:39:08Z</dcterms:modified>
  <cp:revision>39</cp:revision>
  <dc:subject/>
  <dc:title>TECNOLOGIAS NA ESCOLA</dc:title>
</cp:coreProperties>
</file>